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6A44-51D6-43EC-B2A8-D2E24AA22438}" type="slidenum">
              <a:rPr b="1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t’s see file menu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onnect is used to do fast connection to the site visited las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isconnect is used to disconnect the disconnection from the 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it is used to close PC Admin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et’s see Tools menu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here are 3 lower menus; site information, user management, level management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 the site information, we can register site with detailed inform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 the user management, we can register pc admin user and password with available level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 the level management, we can register a level defined in user management.(Move to next page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t me introduce PC admin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can manage all LDK system serie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following PC Spec. is required to install PC admi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lease just refer to the requirement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supports 4 kinds of connection type as shown in the pictur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S-232C, Analog modem, ISDN, LAN. 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page shows how to install PC admi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installation is not difficul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ecute setup.exe and then just follow the indication as described in the page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page shows the PC admin main wind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 composed of main menu, basic system information field, admin menu, admin window, mess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 will explain more details from next page. 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page shows the PC admin main wind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 composed of main menu, basic system information field, admin menu, admin window, mess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 will explain more details from next page. 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et’s see basic system information field first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asic system information shows the following informat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stem field shows a kind of LDK system mod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Move to next page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C9CF-7AE8-4118-94F6-FB1DE8CA637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74320" y="1571760"/>
            <a:ext cx="49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SPEED EDITOR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160" y="115920"/>
            <a:ext cx="8062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. ipLDK Speed Editor –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[File Transfer] Menu - Downloa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765000"/>
            <a:ext cx="6912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rocedure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1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Select [Download] sub-menu in [File Transfer] menu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2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Select Range. If you select User Specified, enter the range below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3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Select [Browse], and name a file you want the speed data to be sav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4.      Click [OK] button to start download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44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15920"/>
            <a:ext cx="8485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. ipLDK Speed Editor –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iting Data – in Speed Editor V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iew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961920" y="3446640"/>
            <a:ext cx="7713720" cy="18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 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rocedure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   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1.  Click on an empty cell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    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2.  Type the data and press [tab] to move on to next column or click 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3.  Select [Save File] sub-menu in [File] menu.  =&gt;  [Save] Dialog shows u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4.  Select the file type, text, exc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5.  Click [OK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** You must enter the correct CO Numbe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Editing" descr=""/>
          <p:cNvPicPr/>
          <p:nvPr/>
        </p:nvPicPr>
        <p:blipFill>
          <a:blip r:embed="rId1"/>
          <a:stretch/>
        </p:blipFill>
        <p:spPr>
          <a:xfrm>
            <a:off x="966960" y="861840"/>
            <a:ext cx="6845040" cy="2279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03520" y="5686560"/>
            <a:ext cx="27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733400" y="5915160"/>
            <a:ext cx="265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743120" y="6162840"/>
            <a:ext cx="265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1716120" y="57340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5702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5657760"/>
            <a:ext cx="35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System         CO Line    CO Grou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876320" y="5905440"/>
            <a:ext cx="26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ipLDK             1 - 36           1-24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5702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5702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15920"/>
            <a:ext cx="84852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. ipLDK Speed Editor –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iting Data –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Text File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816120"/>
            <a:ext cx="525636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 </a:t>
            </a:r>
            <a:r>
              <a:rPr b="1" lang="ko-KR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rocedure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Open the file you want to edit using Notepad 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MS-Wor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2.  file format looks as example.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3. The number 11 on the first line represen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the total number of speed data in this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4. Each item is separated by a separator ’ | 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     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- Speed No|Speed Name|CO Line Type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       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CO Number|Phone Numb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5. When you write CO Line Type ( “CO Line”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  “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CO Group” and “None”), keep 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1 empty space between CO and Line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between CO and Grou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* Don’t exceed 16 characters when entering Speed Nam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* Don’t exceed 24 characters when entering Phone Numbe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* Recommend to edit in speed editor view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2710" r="0" b="25900"/>
          <a:stretch/>
        </p:blipFill>
        <p:spPr>
          <a:xfrm>
            <a:off x="5219640" y="1341360"/>
            <a:ext cx="378792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4920" y="115920"/>
            <a:ext cx="84852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. ipLDK Speed Editor –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diting Data –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Excel File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777960"/>
            <a:ext cx="6788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 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rocedure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Open the file you want to edit using excel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2.   file format looks as belo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07800" y="4006800"/>
            <a:ext cx="85312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3. Click a cell to edit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4. Type data in.  Be careful that you should type ‘ before every data, for example ‘5, not just 5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5. When you write CO Line Type( “CO Line”, “CO Group” and “None”), keep 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1 empty space between CO and Line, between CO and Grou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* Don’t exceed 16 characters when entering Speed Nam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* Don’t exceed 24 characters when entering Phone Numbe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*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돋움체"/>
              </a:rPr>
              <a:t>Recommend to edit in speed editor view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11048" r="69230" b="65470"/>
          <a:stretch/>
        </p:blipFill>
        <p:spPr>
          <a:xfrm>
            <a:off x="1547640" y="1484280"/>
            <a:ext cx="5545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03280" y="1197000"/>
            <a:ext cx="6481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LDK-Speed Editor with LA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Major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File Menu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Edit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체"/>
              </a:rPr>
              <a:t>Demo &amp; Practi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159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Content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0840" y="1522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1.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7880" y="11592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1.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692280"/>
            <a:ext cx="8221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K Speed Editor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is …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A MS-Windows application program that can download, edit, and upload speed data of ipLDK system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This program can send and receive the speed information such as speed bin no, speed bin name, phone number, co line type, and co number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The system requirements for using this program are as follow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LAN Port is used on BMBU for LAN connection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ame port number with ez-Attendant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is u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cc3300"/>
                </a:solidFill>
                <a:latin typeface="Arial"/>
                <a:ea typeface="굴림"/>
              </a:rPr>
              <a:t>So, c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굴림"/>
              </a:rPr>
              <a:t>an’t use ez-Attendant and Speed Editor simultaneous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Unique IP Address should be assigned for LAN connection.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Pentium Celeron 233MHz CPU or Higher 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At least 32MB RAM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MS-Windows 98/ME/2000/X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1560" y="15228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2. PC Spec. Requirem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96960" y="73080"/>
            <a:ext cx="78087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60240" y="716040"/>
            <a:ext cx="822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 Connec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peed :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굴림"/>
              </a:rPr>
              <a:t>10</a:t>
            </a:r>
            <a:r>
              <a:rPr b="0" lang="ko-KR" sz="1600" spc="-1" strike="noStrike">
                <a:solidFill>
                  <a:srgbClr val="3333cc"/>
                </a:solidFill>
                <a:latin typeface="Arial"/>
                <a:ea typeface="굴림"/>
              </a:rPr>
              <a:t>/100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굴림"/>
              </a:rPr>
              <a:t>Mpb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GM 175 –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굴림"/>
              </a:rPr>
              <a:t>FLEX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– Set to NET_PCATD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 (Default valu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967320" y="2062080"/>
            <a:ext cx="15721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b in your off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3662280"/>
            <a:ext cx="835200" cy="7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539640" y="285264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256536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4920" y="4869000"/>
            <a:ext cx="41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 in PC and MPB with same hu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72000" y="2997360"/>
            <a:ext cx="853920" cy="215640"/>
            <a:chOff x="4572000" y="2997360"/>
            <a:chExt cx="853920" cy="215640"/>
          </a:xfrm>
        </p:grpSpPr>
        <p:grpSp>
          <p:nvGrpSpPr>
            <p:cNvPr id="68" name=""/>
            <p:cNvGrpSpPr/>
            <p:nvPr/>
          </p:nvGrpSpPr>
          <p:grpSpPr>
            <a:xfrm>
              <a:off x="4572000" y="2997360"/>
              <a:ext cx="853920" cy="215640"/>
              <a:chOff x="4572000" y="2997360"/>
              <a:chExt cx="853920" cy="215640"/>
            </a:xfrm>
          </p:grpSpPr>
          <p:sp>
            <p:nvSpPr>
              <p:cNvPr id="69" name=""/>
              <p:cNvSpPr/>
              <p:nvPr/>
            </p:nvSpPr>
            <p:spPr>
              <a:xfrm>
                <a:off x="4572000" y="2997360"/>
                <a:ext cx="853920" cy="72360"/>
              </a:xfrm>
              <a:custGeom>
                <a:avLst/>
                <a:gdLst/>
                <a:ahLst/>
                <a:rect l="l" t="t" r="r" b="b"/>
                <a:pathLst>
                  <a:path w="880" h="81">
                    <a:moveTo>
                      <a:pt x="0" y="80"/>
                    </a:moveTo>
                    <a:lnTo>
                      <a:pt x="109" y="0"/>
                    </a:lnTo>
                    <a:lnTo>
                      <a:pt x="879" y="0"/>
                    </a:lnTo>
                    <a:lnTo>
                      <a:pt x="769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72000" y="3068640"/>
                <a:ext cx="745920" cy="143280"/>
              </a:xfrm>
              <a:prstGeom prst="rect">
                <a:avLst/>
              </a:pr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317920" y="2997360"/>
                <a:ext cx="107640" cy="215640"/>
              </a:xfrm>
              <a:custGeom>
                <a:avLst/>
                <a:gdLst/>
                <a:ahLst/>
                <a:rect l="l" t="t" r="r" b="b"/>
                <a:pathLst>
                  <a:path w="111" h="241">
                    <a:moveTo>
                      <a:pt x="0" y="80"/>
                    </a:moveTo>
                    <a:lnTo>
                      <a:pt x="0" y="240"/>
                    </a:lnTo>
                    <a:lnTo>
                      <a:pt x="110" y="160"/>
                    </a:lnTo>
                    <a:lnTo>
                      <a:pt x="110" y="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2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470772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54160" y="312624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0096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4740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93840" y="312624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4064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8744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33880" y="312624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8032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2712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73560" y="312624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2000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14480" y="312624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6128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524720" y="2997360"/>
            <a:ext cx="854280" cy="215640"/>
            <a:chOff x="7524720" y="2997360"/>
            <a:chExt cx="854280" cy="215640"/>
          </a:xfrm>
        </p:grpSpPr>
        <p:grpSp>
          <p:nvGrpSpPr>
            <p:cNvPr id="87" name=""/>
            <p:cNvGrpSpPr/>
            <p:nvPr/>
          </p:nvGrpSpPr>
          <p:grpSpPr>
            <a:xfrm>
              <a:off x="7524720" y="2997360"/>
              <a:ext cx="854280" cy="215640"/>
              <a:chOff x="7524720" y="2997360"/>
              <a:chExt cx="854280" cy="215640"/>
            </a:xfrm>
          </p:grpSpPr>
          <p:sp>
            <p:nvSpPr>
              <p:cNvPr id="88" name=""/>
              <p:cNvSpPr/>
              <p:nvPr/>
            </p:nvSpPr>
            <p:spPr>
              <a:xfrm>
                <a:off x="7524720" y="2997360"/>
                <a:ext cx="854280" cy="72360"/>
              </a:xfrm>
              <a:custGeom>
                <a:avLst/>
                <a:gdLst/>
                <a:ahLst/>
                <a:rect l="l" t="t" r="r" b="b"/>
                <a:pathLst>
                  <a:path w="880" h="81">
                    <a:moveTo>
                      <a:pt x="0" y="80"/>
                    </a:moveTo>
                    <a:lnTo>
                      <a:pt x="109" y="0"/>
                    </a:lnTo>
                    <a:lnTo>
                      <a:pt x="879" y="0"/>
                    </a:lnTo>
                    <a:lnTo>
                      <a:pt x="769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24720" y="3068640"/>
                <a:ext cx="746280" cy="143280"/>
              </a:xfrm>
              <a:prstGeom prst="rect">
                <a:avLst/>
              </a:pr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71000" y="2997360"/>
                <a:ext cx="107640" cy="215640"/>
              </a:xfrm>
              <a:custGeom>
                <a:avLst/>
                <a:gdLst/>
                <a:ahLst/>
                <a:rect l="l" t="t" r="r" b="b"/>
                <a:pathLst>
                  <a:path w="111" h="241">
                    <a:moveTo>
                      <a:pt x="0" y="80"/>
                    </a:moveTo>
                    <a:lnTo>
                      <a:pt x="0" y="240"/>
                    </a:lnTo>
                    <a:lnTo>
                      <a:pt x="110" y="160"/>
                    </a:lnTo>
                    <a:lnTo>
                      <a:pt x="110" y="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2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766044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06880" y="312624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5368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0048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46920" y="312624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9336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4016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86600" y="312624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3340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7984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6280" y="312624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7308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7200" y="312624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14000" y="312624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00720" y="3716280"/>
            <a:ext cx="834840" cy="703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4925520" y="3201840"/>
            <a:ext cx="11160" cy="51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949880" y="3213000"/>
            <a:ext cx="11160" cy="40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51280" y="249228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2492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4821120"/>
            <a:ext cx="4930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 in PC and ipLDK with different hu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ame segm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5509440" y="2998800"/>
            <a:ext cx="676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b 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6877800" y="2998800"/>
            <a:ext cx="676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b 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258200" y="2925720"/>
            <a:ext cx="8557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5920"/>
            <a:ext cx="60530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ipLDK Speed Editor with LA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08000" y="3519360"/>
            <a:ext cx="1001880" cy="98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451640" y="3573360"/>
            <a:ext cx="1001880" cy="98928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1262160" y="2349360"/>
            <a:ext cx="853920" cy="216000"/>
            <a:chOff x="1262160" y="2349360"/>
            <a:chExt cx="853920" cy="216000"/>
          </a:xfrm>
        </p:grpSpPr>
        <p:grpSp>
          <p:nvGrpSpPr>
            <p:cNvPr id="118" name=""/>
            <p:cNvGrpSpPr/>
            <p:nvPr/>
          </p:nvGrpSpPr>
          <p:grpSpPr>
            <a:xfrm>
              <a:off x="1262160" y="2349360"/>
              <a:ext cx="853920" cy="216000"/>
              <a:chOff x="1262160" y="2349360"/>
              <a:chExt cx="853920" cy="216000"/>
            </a:xfrm>
          </p:grpSpPr>
          <p:sp>
            <p:nvSpPr>
              <p:cNvPr id="119" name=""/>
              <p:cNvSpPr/>
              <p:nvPr/>
            </p:nvSpPr>
            <p:spPr>
              <a:xfrm>
                <a:off x="1262160" y="2349360"/>
                <a:ext cx="853920" cy="72360"/>
              </a:xfrm>
              <a:custGeom>
                <a:avLst/>
                <a:gdLst/>
                <a:ahLst/>
                <a:rect l="l" t="t" r="r" b="b"/>
                <a:pathLst>
                  <a:path w="880" h="81">
                    <a:moveTo>
                      <a:pt x="0" y="80"/>
                    </a:moveTo>
                    <a:lnTo>
                      <a:pt x="109" y="0"/>
                    </a:lnTo>
                    <a:lnTo>
                      <a:pt x="879" y="0"/>
                    </a:lnTo>
                    <a:lnTo>
                      <a:pt x="769" y="8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62160" y="2421000"/>
                <a:ext cx="745920" cy="143640"/>
              </a:xfrm>
              <a:prstGeom prst="rect">
                <a:avLst/>
              </a:pr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08080" y="2349360"/>
                <a:ext cx="107640" cy="216000"/>
              </a:xfrm>
              <a:custGeom>
                <a:avLst/>
                <a:gdLst/>
                <a:ahLst/>
                <a:rect l="l" t="t" r="r" b="b"/>
                <a:pathLst>
                  <a:path w="111" h="241">
                    <a:moveTo>
                      <a:pt x="0" y="80"/>
                    </a:moveTo>
                    <a:lnTo>
                      <a:pt x="0" y="240"/>
                    </a:lnTo>
                    <a:lnTo>
                      <a:pt x="110" y="160"/>
                    </a:lnTo>
                    <a:lnTo>
                      <a:pt x="110" y="0"/>
                    </a:lnTo>
                    <a:lnTo>
                      <a:pt x="0" y="80"/>
                    </a:lnTo>
                  </a:path>
                </a:pathLst>
              </a:custGeom>
              <a:solidFill>
                <a:srgbClr val="002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397880" y="247860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4320" y="247860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1120" y="247860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37560" y="247860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84000" y="247860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30800" y="247860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77600" y="247860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4040" y="247860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0480" y="247860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7280" y="247860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3720" y="247860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0160" y="247860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4640" y="2478600"/>
              <a:ext cx="223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51440" y="2478600"/>
              <a:ext cx="2196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956720" y="2492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855880"/>
            <a:ext cx="5040" cy="7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2852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6480" y="11592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ipLDK Speed Editor – Major featur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500200" y="2948040"/>
            <a:ext cx="1073160" cy="318960"/>
          </a:xfrm>
          <a:prstGeom prst="wedgeRectCallout">
            <a:avLst>
              <a:gd name="adj1" fmla="val -64046"/>
              <a:gd name="adj2" fmla="val -15064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in Menu Tr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379600" y="3565440"/>
            <a:ext cx="1125720" cy="376200"/>
          </a:xfrm>
          <a:prstGeom prst="wedgeRectCallout">
            <a:avLst>
              <a:gd name="adj1" fmla="val 74842"/>
              <a:gd name="adj2" fmla="val -86611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ub Menu Tr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1 PGM Number Bas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1_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561440" cy="367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796000" y="1700280"/>
            <a:ext cx="1225440" cy="287280"/>
          </a:xfrm>
          <a:prstGeom prst="wedgeRectCallout">
            <a:avLst>
              <a:gd name="adj1" fmla="val -222925"/>
              <a:gd name="adj2" fmla="val -299171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2637000"/>
            <a:ext cx="1297080" cy="318960"/>
          </a:xfrm>
          <a:prstGeom prst="wedgeRectCallout">
            <a:avLst>
              <a:gd name="adj1" fmla="val -114870"/>
              <a:gd name="adj2" fmla="val 7587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4540320"/>
            <a:ext cx="74167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Featur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) Uploading speed bin data to ipLDK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) Downloading speed bin data from ipLDK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Editing speed bin data (MS Excel and Text fil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1200" y="15228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4. S/W Instal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949320" y="768240"/>
            <a:ext cx="5854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[File] menu includes [New], [Open File], [Save File]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5920"/>
            <a:ext cx="6053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 ipLDK Speed Editor –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[File]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2_1" descr=""/>
          <p:cNvPicPr/>
          <p:nvPr/>
        </p:nvPicPr>
        <p:blipFill>
          <a:blip r:embed="rId1"/>
          <a:stretch/>
        </p:blipFill>
        <p:spPr>
          <a:xfrm>
            <a:off x="468360" y="1035000"/>
            <a:ext cx="8064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15920"/>
            <a:ext cx="6053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 ipLDK Speed Editor –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[File]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920880" y="3213000"/>
            <a:ext cx="782784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[Open File] Sub-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rocedures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1.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Select [Open File] sub-menu in [File] menu.  =&gt;  [Open] Dialog shows u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2.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Select the file type, text, exc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3.       Click [OK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[Save File] Sub-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rocedures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1.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Select [Save File] sub-menu in [File] menu.  =&gt;  [Save] Dialog shows u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2.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Select the file type, text, exc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3.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Click [OK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882720" y="949320"/>
            <a:ext cx="519120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[New] Sub-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rocedures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1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Select [New] sub-menu in [File] menu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2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Enter the range you want to edi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3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Click [OK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76720" y="907920"/>
            <a:ext cx="32385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739800"/>
            <a:ext cx="52768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This program can be connected to LDK system via LA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4653000"/>
            <a:ext cx="835344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*  ipLDK Speed Editor uses the same port as ez-Attendant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*  Prior to use the program you must check Admin PGM 175 – FLEX 10 (NET PCATD) – Default valu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* If the ez-Attendant is connected to the system, you can’t connect to the system using the Speed Edito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until the ez-Attendant is disconnect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* Unlike ez-Attendant, ipLDK Speed Editor doesn’t need a lock key to use the syste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15920"/>
            <a:ext cx="676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. ipLDK Speed Editor –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Connection]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7" name="3_1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295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4920" y="115920"/>
            <a:ext cx="7939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. ipLDK Speed Editor –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체"/>
              </a:rPr>
              <a:t>[File Transfer] Menu - Uploa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4_1" descr=""/>
          <p:cNvPicPr/>
          <p:nvPr/>
        </p:nvPicPr>
        <p:blipFill>
          <a:blip r:embed="rId1"/>
          <a:stretch/>
        </p:blipFill>
        <p:spPr>
          <a:xfrm>
            <a:off x="539640" y="771480"/>
            <a:ext cx="7417080" cy="2971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3789360"/>
            <a:ext cx="561672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rocedure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1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Select [Upload] sub-menu in [File Transfer] menu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2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Select [Browse], and select a file to uploa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3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Click [OK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1" name="upload" descr=""/>
          <p:cNvPicPr/>
          <p:nvPr/>
        </p:nvPicPr>
        <p:blipFill>
          <a:blip r:embed="rId2"/>
          <a:stretch/>
        </p:blipFill>
        <p:spPr>
          <a:xfrm>
            <a:off x="4540320" y="4724280"/>
            <a:ext cx="4495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5:33:48Z</dcterms:created>
  <dc:creator>이상춘</dc:creator>
  <dc:description/>
  <dc:language>en-US</dc:language>
  <cp:lastModifiedBy>김완경</cp:lastModifiedBy>
  <dcterms:modified xsi:type="dcterms:W3CDTF">2007-03-11T05:31:03Z</dcterms:modified>
  <cp:revision>122</cp:revision>
  <dc:subject/>
  <dc:title>PowerPoint 프레젠테이션</dc:title>
</cp:coreProperties>
</file>